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E7E-19F5-4659-96AE-EADE2B78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F8D-F9FD-4506-9D92-B8EC4000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CAF-5CF4-4E63-875F-C8B33E1B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B41-D367-4670-8585-01BDDD92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1A0-9C04-4DE1-9D71-52A15282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D58-D745-45E5-9DC1-A3CC18F0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E4A-CE53-4B34-AA23-E11AF3BD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2DB-B725-44DE-9072-13809728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6C4-56FC-4FFF-8667-A86F05AE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D35-D3FC-4ADD-89BF-D6865545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2C4-9FF3-4595-B72F-CE48040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2F2-E282-48E4-81D0-D64E0EF6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858D-658E-44FC-89D0-31B6FD9B5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c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iberals, Europeans,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ose who favor extrem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aris,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0-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Charles X rejected the Legislature, limited the right to vote &amp; restricted the press = angered French Radicals = they revolted &amp; wanted to set up a Republic; ran Charles X out of France into England, but moderate Liberals kept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uis Phillip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Charles X’s cousin &amp; successor,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chosen by the moderate liberals as Constitutional king after his absolutist cousin was kicked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citizen king” because he owed his throne to the people; he got along well with the liberal bourgeoisie; the upper bourgeoisie prospered under Louis; extended suffrage to wealthier citizens; favored the middle class at the expense of the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e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Philli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eriod of reduced economic 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40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corruption of Louis Philippe’s gov’t = discontent &amp; recession = factories shut down and people lost their jobs; poor harvest= caused bread prices to rise = French Revolution of 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poleon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: nephew of Napoleon Bonapar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: emperor of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: 185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: After Rev of 1848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public created w. president &amp; legislature = Louis Napolean won president b.c he attracted working classes = once in power, called himself Emperor= ended the short lived Second Republic &amp; back to an empire = brought prosperity BUT foreign issues = collapse of his empire &amp; French p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uis Kossu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Hungarian journali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led Hungarian Nationalists in Rev of 1848; demanded an independent government; an end to serfdom and a written constitution to protect basic righ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A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0-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ustrian gov’t agreed to reforms but gains were temporary; troops soon regained control &amp; rebels were sma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5:51:18Z</dcterms:created>
  <dc:creator>St. Johns School District</dc:creator>
  <dc:description/>
  <dc:language>en-US</dc:language>
  <cp:lastModifiedBy>Windows User</cp:lastModifiedBy>
  <dcterms:modified xsi:type="dcterms:W3CDTF">2013-02-20T15:42:36Z</dcterms:modified>
  <cp:revision>7</cp:revision>
  <dc:subject/>
  <dc:title>Radicals</dc:title>
</cp:coreProperties>
</file>